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6874786"/>
        <c:axId val="81111503"/>
      </c:barChart>
      <c:catAx>
        <c:axId val="6687478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1111503"/>
        <c:crosses val="autoZero"/>
        <c:auto val="1"/>
        <c:lblAlgn val="ctr"/>
        <c:lblOffset val="100"/>
        <c:noMultiLvlLbl val="0"/>
      </c:catAx>
      <c:valAx>
        <c:axId val="8111150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687478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E877C-4E9A-4468-864F-2CB6F837C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EFE7B-E892-443F-8DDE-A0B052CF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42454-A81F-4771-9CC6-3D4E1E416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B971C-BCA7-4F36-B509-DBD0986DC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4CE8D-332D-4EED-9161-B0D089825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BD976-8AD1-44B6-8BD5-FC573355B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C8971-2DDE-42CB-B954-4518B79B2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0363D-6AFB-48BD-A3A6-7CBA44052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59276-CC9D-4EB1-A889-240C12F76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04590-0E4E-486B-B5FA-30D8D0F24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21859-6539-4930-AC08-053405B0C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51E5D-9973-45FA-96A0-EE269ECAA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44120-BD07-41E9-8543-9FCCC9F96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D2D4-0866-4C54-A3DC-53B63B5D3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0EEB4-8625-422C-AFB3-235855A0D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3DC71-7D70-4356-AA8E-74C227D7B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533AE-0C1A-45B1-889C-8FDAE34C6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79E3C-A762-473C-B0E9-D11E78DE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27F0C-38CB-42F2-9969-BF0526CB3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233C-DAC1-433B-911D-D13F35A1E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96B40-8FDC-4FDC-A4AD-613A46B8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9035-883B-4F9C-BD36-F8C6FEAFE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218A-8C55-488E-B230-1BE4CCAD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381F-6476-42C4-A1A4-4DA26E5CB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371873-9DF5-49BC-AC1A-29A225B389B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FAB3C-5B3F-4282-BBD7-B7A9CCC575C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