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96592502"/>
        <c:axId val="23032448"/>
      </c:barChart>
      <c:catAx>
        <c:axId val="96592502"/>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3032448"/>
        <c:crosses val="autoZero"/>
        <c:auto val="1"/>
        <c:lblAlgn val="ctr"/>
        <c:lblOffset val="100"/>
        <c:noMultiLvlLbl val="0"/>
      </c:catAx>
      <c:valAx>
        <c:axId val="23032448"/>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6592502"/>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3CA5B-4642-4602-84EF-8F6166873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41A06-89D3-41DE-A6AE-941ECCA2E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308D4-0132-4A26-8B07-716DD1DD2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DEC70-932A-4C81-A5E5-CA644544C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A264FE-834A-4998-A9B3-DB0E8C302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948F1-0AFD-4F61-A3C2-1C633B37F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30936-2898-4527-8413-4E1957E3E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781F1-E550-4066-86D3-A4042F36D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6E33C-21A2-4BE9-AD83-73CA76BD9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A305E-73D1-4CA5-A625-F2FAC066B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1B127-281B-4613-817F-F7EE5C84A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B0A4D-8BD8-4AB8-91B9-799380441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A5FD3-D9B5-4203-87A3-2DCDA22C4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EC8C7-2665-432F-A5BA-AFA6AF013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2C2DB-D435-4389-9F9A-76481A4DA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E54561-0E53-4576-84C7-D97536A356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20625B-6E8A-4103-A877-70CC9E3A6B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B22C0-F996-4F04-A614-2BB53EEF6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BB3CE-A414-437B-A820-F3941F681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13031-F22E-4A85-A30C-1E31A81B5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C01AC-FE6D-47B5-BB8A-D8D5D3FE9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6D1F3-0214-4C42-907A-DFD44DBF0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28CDE-912A-4664-BCB5-7973090E6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4EAFD-64F0-494B-AEA1-2B724BC81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7BF2B6-422C-4038-A445-733DDE068D5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E0E075-D4EC-4F92-85A6-838746ABC122}"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