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1598131"/>
        <c:axId val="73507914"/>
      </c:barChart>
      <c:catAx>
        <c:axId val="8159813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3507914"/>
        <c:crosses val="autoZero"/>
        <c:auto val="1"/>
        <c:lblAlgn val="ctr"/>
        <c:lblOffset val="100"/>
        <c:noMultiLvlLbl val="0"/>
      </c:catAx>
      <c:valAx>
        <c:axId val="7350791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159813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64ECE-AC91-4AE1-8D12-9706C780B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9890C-5F70-48B5-AFE2-C5D225ECE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8AEBD-808A-4311-841E-DC7042B4B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2D772-B79F-40D9-B160-30F91BFAD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4064D-05AE-48B3-B43D-3FEC732FD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6CB94-3BB5-4D63-BC2A-6113447BD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D5068-A324-4D04-AF0A-EE5CDF950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F59B4-B6C3-4100-A473-9E507F7E4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66C23-D23A-4F1E-A8F9-B76B54A1A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F1301-4BDD-4C14-A2DA-0B9D15CB0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D8854-32F7-46F1-9343-131AE1587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18749-472C-440A-8FCA-681232893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4CF33-4C44-4EF3-BEF7-641A1C144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EC9E1-1E77-42BB-9AA9-AA2AD3A68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FCBB7-25F4-4250-B08C-9AA9C68B0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868E0-38E9-416C-8AB3-DCCB17D83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29EBC-C108-454D-A037-DDF6CB7BF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5267D-8D27-45A0-A24E-15ADF9E04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E7138-3969-4904-A983-FAD47D0D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88D91-DB19-4F67-AEEE-1BEE04488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4E4D5-142A-461B-88FD-DCBAB5B74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36F6-818F-453A-9E98-95E1B08B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9623D-5AB0-4B74-9A84-06D164998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269A-B1E9-4070-95AE-91C3A71DA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79031-AD16-41AA-B3A5-5234121B04E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65C443-9ECE-4C86-A757-FC3490BB2BB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