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24927850"/>
        <c:axId val="62664288"/>
      </c:barChart>
      <c:catAx>
        <c:axId val="24927850"/>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62664288"/>
        <c:crosses val="autoZero"/>
        <c:auto val="1"/>
        <c:lblAlgn val="ctr"/>
        <c:lblOffset val="100"/>
        <c:noMultiLvlLbl val="0"/>
      </c:catAx>
      <c:valAx>
        <c:axId val="62664288"/>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24927850"/>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9A0A63-CBE2-4CF7-8880-7849B6A490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160818-8F04-466A-8EA6-9A56B7FD21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ED7ED4-8DA3-462A-A103-D5666424D9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4CE875-C4C0-4903-9926-598D51AC7B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6E74A9-20A5-4A4D-BF7D-DA7A96DDFE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FCA6D4-D0D4-4756-80BF-79FE219E49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3C69FC-683A-4375-BCB2-920F8151AB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A39AAD-3160-41D2-A7E1-5DACBC7210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DDD4AE-A135-4480-B025-21A194EEE2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CE9F7C-739A-44E7-8D98-F828887FDA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7C60D8-4A2B-43B5-B469-5BA51F50B0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1A6B9A-9BF8-48C3-BCF5-B02BFCA5CE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A52488-37B2-48CE-AAE1-BBCEBF995D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3794FF-BDEA-4D18-82BA-FF8C324710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212DBF-052E-43EB-A702-39B5F78B9B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87F5E9-D4DC-4C89-83BE-48E738260C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854E9B-1B1B-4D77-9589-AC34391E22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359612-7D10-407B-AB6D-39DAC6791E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9B4760-876C-4A34-AE12-AB3D8BA435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8B793A-2114-4308-9527-9B1D9E1F4B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40F217-24BD-4208-AB66-3CF1AC99F0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C0E1D-3E32-4AC1-ACA4-C2CB15576C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8629E-5CE6-47C4-AA4B-3423BACBD9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8E90A-5CFE-4993-9DD7-7F3C3002C3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86C05E-441C-432F-B9B4-035B8BC3D703}"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88CBAB-2AA8-4CCC-BBB1-1A6A672FF4B5}"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Photo</a:t>
            </a:r>
            <a:endParaRPr b="0" lang="en-US" sz="3600" spc="-1" strike="noStrike">
              <a:solidFill>
                <a:srgbClr val="000000"/>
              </a:solidFill>
              <a:latin typeface="Arial"/>
            </a:endParaRPr>
          </a:p>
        </p:txBody>
      </p:sp>
      <p:pic>
        <p:nvPicPr>
          <p:cNvPr id="90" name="" descr=""/>
          <p:cNvPicPr/>
          <p:nvPr/>
        </p:nvPicPr>
        <p:blipFill>
          <a:blip r:embed="rId1"/>
          <a:stretch/>
        </p:blipFill>
        <p:spPr>
          <a:xfrm>
            <a:off x="1380960" y="1920960"/>
            <a:ext cx="7123320" cy="4206960"/>
          </a:xfrm>
          <a:prstGeom prst="rect">
            <a:avLst/>
          </a:prstGeom>
          <a:ln w="0">
            <a:noFill/>
          </a:ln>
        </p:spPr>
      </p:pic>
    </p:spTree>
  </p:cSld>
  <p:timing>
    <p:tnLst>
      <p:par>
        <p:cTn id="35" dur="indefinite" restart="never" nodeType="tmRoot">
          <p:childTnLst>
            <p:seq>
              <p:cTn id="36" dur="indefinite" nodeType="mainSeq">
                <p:childTnLst>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